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F0B-05A0-432B-AA21-1227C0D0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E5D-DDF6-45FC-A91B-E49CA116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131-3DEC-4ADA-9466-2ADB8638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737-F927-4DF1-8F74-19FA4EA3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AB03-CBD9-4583-A7C2-FAB69F07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CE75-1FF1-4B23-BBE0-B1C2E14A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A8BE-0A8A-4EE4-B480-A403948A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1DE3-7059-4604-9421-5A67A6A7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5E90-BE95-4D4C-9CAB-2919DBE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1979-36F3-4663-BE17-C806E150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449A-56C6-44C9-9951-E5A53A6A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2D5-1EE4-489E-86F2-86366D97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3AEA-212E-4989-A561-3E011DD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25D4-2187-4D1E-8FD9-67AFDB85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0F43-273D-436F-98F1-6FFE9EC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F008-792E-41FB-9B37-12CBD68D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71BE-29A7-468C-B0B7-B32E5511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1E5-F549-43FD-9DAE-02241791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B47-F8DC-4BFE-8AA1-D1991A83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3D0-7138-427D-A8CC-35F066BE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6A9-FE78-4567-8CE2-DB62833C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13F-AAEC-4F94-A6BF-462D255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67F-6545-487F-B05F-383C64C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1F9-C11B-45E5-A445-C3FF6F29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E522-7849-40CB-AB3A-50D01347D4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624B-A22B-447A-B9E0-7064AE5B05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Me llamo _________ Clase 6NH (601)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La fecha es el 9 de octubre del 2012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Propósito # 8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ómo practicamos el Repaso 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ra la foto en la p. R6 del TEXTO y COPIA y responde las siguientes pregunt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uántas muchachas hay en la fotografí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De dónde son ella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Están en el parqu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Tienen bicicleta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Garamond"/>
              </a:rPr>
              <a:t>Ejercicios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00"/>
                </a:solidFill>
                <a:latin typeface="Verdana"/>
              </a:rPr>
              <a:t>I-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pia y comple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Karina no es baja. Es 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ax no es antipático. Es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aleria no es fea. Es 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niel no es pelirrojo y no es rubio. Es 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00"/>
                </a:solidFill>
                <a:latin typeface="Verdana"/>
              </a:rPr>
              <a:t>II-</a:t>
            </a:r>
            <a:r>
              <a:rPr b="0" lang="es-ES_tradnl" sz="24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presa la misma idea usando una palabra dife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la es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uap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la es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racio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Garamond"/>
              </a:rPr>
              <a:t>Tarea # 8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 hoj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7:29Z</dcterms:created>
  <dc:creator>Helen Zumaeta</dc:creator>
  <dc:description/>
  <dc:language>en-US</dc:language>
  <cp:lastModifiedBy>Helen Zumaeta</cp:lastModifiedBy>
  <dcterms:modified xsi:type="dcterms:W3CDTF">2012-10-02T21:29:20Z</dcterms:modified>
  <cp:revision>16</cp:revision>
  <dc:subject/>
  <dc:title>Slide 1</dc:title>
</cp:coreProperties>
</file>